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7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4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ftr" idx="4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 type="sldNum" idx="4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5A3E-5302-4471-A915-3F0A6423D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102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7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E543-1FBB-4490-BC30-DBAB118E7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19D4-4A2A-4FB1-B7C1-6D99F858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0B74-8BE6-454A-BBA4-54E6B7AF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C67D12-7B75-40A3-829C-91670256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E17262-A3FB-4F9A-8045-42675636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79BB31-F1F6-4CE7-AE42-CF4D2D1F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5CE4AC-3E27-48B2-B63F-9AD3DE9E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8A229D-A085-427C-9476-66707F2D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C8BBF1-1CA3-4DC1-B576-A2AC1A23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8053B0-FF44-4454-945A-D0907348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59B9F8-ABB4-4E6B-8E91-722C4146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8A2C00-42BD-4120-A256-62BC4368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5BEF8A-0639-4FC6-9CF8-CC016389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1B9A-7ACC-4152-B126-262AE01B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CB6F15-EEE1-4B0C-A06E-FBBBC8D0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3BB580-AC84-4DAF-9F2D-2CA08787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00A43E-FA1A-4B9D-83CC-BB0DB53C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9838DE-0CF9-4159-AC64-505AF0D7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2B8482-D930-4892-8A75-AE515BD6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2889DB-A25D-40C7-8EDA-43B4B2C7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599166-1B4E-4940-8468-56150A0C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906546-B2CF-42A9-AFB7-0F039C70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283A33-50CA-4F82-9DC9-B7492F90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7BE74E-A73B-48E1-B3C9-5EE83CB7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7D8C-2338-43D8-916E-DCCD3E25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98E8B4-EB5F-4BC4-8DAD-6116C48A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5428EE-3700-4CE5-BC9F-C3B6AFEE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7BCCE3-48F0-4E83-90F0-0A73D29C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83F624-D24E-471E-81B6-5FC5DD25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360DA3-CAB0-48C9-A345-4BB4B8EF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98694F-D5A1-4DB0-AE2F-CC828FCF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0A0F47-D019-4C3D-B5AC-AD269CF1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90850A-DF04-4B63-870E-034EE7F2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A8B7CB-9A89-4A55-964F-536F5E18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39196B-B687-4E73-821A-07CC7076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C4F5-C1CD-41C8-B7E5-C752C94F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709699-BFFD-40A0-8C3C-405DB077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39C43E-393B-4EB6-AE4B-836A7CD2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924669-B40F-4CE4-BB71-39857961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0BAB63-0D15-4231-8982-7E645559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6B8E5F-65F4-4A38-B9B4-6BB72839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AFCBF6-1E59-4E9B-BFAA-DA192A8C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39625F-8F3A-4ED9-A524-EDDBCF21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CA4D92-450F-4913-82F4-88CF1038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528900-14A8-423F-964C-B14B7136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D6F625-8575-4A53-8878-386EAA3A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D96B-191B-4CEA-BB8F-A9EBA637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501EC7-0AE0-4CF2-9C76-678DA249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A49F16-5F95-4178-ABBC-26DE1CD5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134782-821C-4BB2-8C5F-222FF7BB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BDB082-40B4-4C2D-A84B-5A041853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7184F8-054A-462D-8872-518D8999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6A396B-93DD-4955-B1CF-83B96F4F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3FE1B3-24B3-417A-A7DF-F2BFC89D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E2AA6E-EDC7-47D2-9B6E-95406A30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1C0AF2-4615-4742-BD7F-F578F238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647AE8-56A8-4F34-87BA-F986D26D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2B72-71AA-485F-98F8-F99B6C5A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110EDD-96BA-45A9-8F28-454392B6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8DC22C-E0BE-4857-87EA-7E59C056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449022-DCA9-4E90-B7B7-2AC3D594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B343B0-0DA5-482B-8EC8-667CB575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E717CD-F719-445A-A873-F8A5B2B8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8376DD-32CF-4353-A85A-1D536CFB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83A7EA-EF23-4B9A-B892-A5925277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7B743A2-B603-4610-8CDD-12BEE6BF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5DAB16-CB15-48AA-9985-B8195702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297A4EC-943F-471A-874C-3542CABF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7950-60F9-4A7D-9E0C-AF8A5C0B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6537599-3A5F-45EB-9C2E-AA21BAAF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036AA12-0FF7-44E0-BFCD-08FFE59D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F6655A-379E-4B15-8717-6ACC1C9D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E8FFB0E-7336-4A2B-9346-DA640EBA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3A160CD-0D9A-4BF2-B2DE-2145ADB7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FC88F6-4C4F-4109-B4CD-A0FF6B22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0FE7431-5D03-4115-A2DA-6A5C4B88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D64CEBB-9865-4FCE-AA14-C9628B45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B08A3D-4357-422B-A3C6-D3D28FAB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271B02-DB2E-4211-816E-82984932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B207-1E21-4D66-B9D1-156C3FFD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9BBFFFC-ECD4-4F6E-981B-2F7B3435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DF8B000-42A2-46AE-B59E-ECF53D58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172A0FA-612A-42CF-987C-D9B93681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950DF0-C566-4644-B050-8A994836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82B670-F1F5-43C8-967E-C017D645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34206E4-E2A6-4500-B906-FD621EEF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A184B11-808F-4FF4-8B35-E67E3D74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298F8C6-0F79-47DA-807C-F9E06EC6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A49E10-2FA0-4C61-8F3A-C86B8395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E470620-C5FE-492D-9F5A-A76CEDCD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8C19-F669-4CC4-AC9B-512F2936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496D49-4C1C-4AF1-804E-27E4A716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C28C-1AE0-4493-942E-F07EDBB8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3FC1-3905-42D8-9E16-592FEEDF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470C-F2B6-4CEC-905C-6030282F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D364-B86C-4D12-BA46-DACE7DBE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0AC4-93E0-47F9-8928-52EA746B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BCDB-8559-4FE0-8454-2A01407E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657E-C0AE-4920-9195-68A90260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32846-55A6-4674-8F3C-3F719C33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0AA6A-F810-4C30-A6FC-F9A31D83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3E9F5-D9A4-4943-910A-12F3DC73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B9A8C-C420-49BB-9044-45639A26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BE9A2-168D-4F27-A5A9-7AA794BD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2E00-8E97-46A4-886E-4AA26637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626FC-DFEB-45A7-ACD9-3DFB3D0B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D853E-BBBD-4170-BAD8-520624F3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61430-4CAC-4985-8CF0-8EDEEE2B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5132D-DACA-4C34-B58A-27ABDE22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4C594-5DD9-4B51-A1E5-0E4E219E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71EE6-92E2-4920-B3F3-D51F510C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498E1-57DE-4F73-BD24-A9F0E0D5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6E56-7748-4ACF-8782-7A86B6CF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685EED-4462-43AB-ABBD-0DBC2656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B7C3-25B3-4636-8298-427C8A0E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BBA4C2-E4E8-48C4-9266-2C5DA8CF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86FE9F-BEB5-49BE-8858-E31AA56C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7F6A3C-DAFD-4FE8-AB23-9E1D70B6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B2A77B-1EFE-4095-AD2E-052B2170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50B25E-9275-4880-B33B-432C7649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8BE5E4-355C-4F80-B430-3F69DB7E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A82FFC-F424-4521-ACF9-ABD6A691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160267-72C2-48A5-ACCE-522C94F3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AD3A71-EF50-4B26-8D18-124392CE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CA2836-8155-4BC1-9B19-309E1167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2FCB-6CA7-45F2-AC07-4AB25DD7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A1F10D-5ACB-4D02-974E-46B55A71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1C658D-174A-4DB7-9A4B-D7411343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967654-5C61-472E-933A-368F0414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5C7CB7-068A-44AE-9C10-9E663BA7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3B4BB3-6DE0-476F-AC24-67A833D8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38CB37-2065-4EA8-BF2D-E216FEE4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84A479-0C2F-443E-B167-B8883A21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4F0FBA-2851-4CE7-BFA0-7983DD51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578159-BBB5-496A-B0AA-E576A441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CA74E1-DA7D-4245-92B9-0E24B938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6C18-63C7-49BF-9E7B-B0AC6EBD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F39E5A-6065-481A-B1A3-342DA2DF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8AD79D-45B9-43EC-BACB-F32D4423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77311F-87F4-464B-AD00-119ADE5E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8D954F-7D61-4DCB-A934-827FE509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796871-DB37-4528-A0E5-40DE4006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2C301F-A03B-46B7-9146-A397B591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3CEE95-A491-4B18-951E-82D9FCED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DC5EE4-98CB-4EE8-A0AD-B6424D03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128890-6CD2-4A0A-B695-E39D2192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C7181C-DC57-4BD5-A967-4AB5DB97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7E35-70AB-40AC-8F31-A71787F6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733899-F29B-46B8-974A-F2F269DD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121559-6C29-46E6-AA56-57424BFE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BD09EA-3241-420E-B840-1EF3738A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256A1B-DF5B-4D10-87C8-F3E59EDD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21C6C7-CCF1-4E44-A59B-8906D1B3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055ADD-8A5B-4D51-9E69-5D782478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F5F733-7A36-4754-AA59-721351CA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A3531F-26E6-4850-8757-7BEE9692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F2E995-07DD-44C1-8FDC-B7B49980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3D1ABF-D20D-4281-9DEC-98C1BE71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D16-FCFC-4767-9B96-148EB3F2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329D7D-36EC-47F5-8133-3036F66D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846E97-4863-407F-B6D8-B2B7940D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B81D56-2AB9-4C71-A41A-BFF38C56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F92607-E37B-4869-A56E-82B70DB8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68F958-C1B0-4FDD-BE0F-8C8651F6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972CCD-3F97-4DAB-A157-1F61E518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E4D879-9862-49B2-BB98-B2EDB1AB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86CF0D-1841-411C-A16F-49EF4958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ACF8D3-C8E9-411A-879D-8B71EB6F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6DD623-A4F7-44F6-82EA-BB57200C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97D4-88EE-47BB-A15A-7A92C440B289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E03A-DCA8-44CC-BDCD-E17AF6CEF58B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15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16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18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0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9EB6-FAA3-4B7D-B407-8C8A90FA3BED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A480-DB69-4B1D-B8D2-1A1B364377C3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6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6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6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Rectangle 13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4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A8BE-C51D-40AB-ADF6-830FC1EC763A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5569-8FCF-4973-A84A-3B1F23AD9493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2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51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51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51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FB90-F76F-4368-A96D-650F43C0AD96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C144-552D-4E12-B559-A189CC2671BF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561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563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5" name="Rectangle 11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137B-F682-463E-95D2-E82F03DE254B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7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8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B680-8B4B-4E52-B178-2C06B3A25ED7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0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1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9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6D82-43C3-4647-A253-03231C3D75E0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0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1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2A1B-D659-4320-8AA1-1B6E68690C34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5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5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0" name="Rectangle 11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12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CC15-EF05-48B3-8A8D-D01D7AB9A54D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A20F-9BDB-4FCB-A764-F0A65EC4F50A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42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8"/>
            <p:cNvSpPr/>
            <p:nvPr/>
          </p:nvSpPr>
          <p:spPr>
            <a:xfrm>
              <a:off x="685080" y="580680"/>
              <a:ext cx="7745760" cy="568368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685080" y="6042600"/>
              <a:ext cx="774576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85080" y="563760"/>
              <a:ext cx="7745760" cy="24879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4E78-4491-4395-A2EE-15F1AE5CADE2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7CB7-D625-4727-B10F-0A6A441AFDA5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5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88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90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3704-4439-4329-8F3E-187ADF3F50B1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AAEF-ABFA-4F96-9F4E-E84C08450611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PaperPanel-Title.jpg"/>
          <p:cNvPicPr/>
          <p:nvPr/>
        </p:nvPicPr>
        <p:blipFill>
          <a:blip r:embed="rId3"/>
          <a:stretch/>
        </p:blipFill>
        <p:spPr>
          <a:xfrm>
            <a:off x="360360" y="298440"/>
            <a:ext cx="8418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563400" y="476280"/>
            <a:ext cx="7982280" cy="5888160"/>
            <a:chOff x="563400" y="476280"/>
            <a:chExt cx="7982280" cy="5888160"/>
          </a:xfrm>
        </p:grpSpPr>
        <p:sp>
          <p:nvSpPr>
            <p:cNvPr id="136" name="Rectangle 8"/>
            <p:cNvSpPr/>
            <p:nvPr/>
          </p:nvSpPr>
          <p:spPr>
            <a:xfrm>
              <a:off x="563400" y="476280"/>
              <a:ext cx="7982280" cy="58881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Straight Connector 9"/>
            <p:cNvSpPr/>
            <p:nvPr/>
          </p:nvSpPr>
          <p:spPr>
            <a:xfrm>
              <a:off x="563400" y="613440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Straight Connector 10"/>
            <p:cNvSpPr/>
            <p:nvPr/>
          </p:nvSpPr>
          <p:spPr>
            <a:xfrm>
              <a:off x="563400" y="342756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6952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7F72-EE2E-4D92-9916-B7AB798296C1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638680" y="6124680"/>
            <a:ext cx="289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8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182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1122-2823-43D0-81ED-34B283C26C16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0ADB-67F4-478E-BD5B-C77BA320C27C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2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3FC8-A460-46C5-96D5-ED2A7CA8B04D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94F7-15E6-485A-A122-D68CA3469E35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73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8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75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8" name="Straight Connector 12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traight Connector 13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8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8851-2BF1-48A0-AF4D-63F9134A7B79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9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0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0DCB-8552-4F61-9880-F1121E4DC46F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22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6A9E-8C99-4092-AC05-3EED654216F9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533B-FECE-4400-95A2-AD591E4E1155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6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7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5DFA-E8B2-4B9B-B613-A53F0B6D04E8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266F-961D-4D5A-92D0-07533B910BF0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ahoo.com/finance" TargetMode="External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reating a Workshee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1" name="TextBox 2"/>
          <p:cNvSpPr/>
          <p:nvPr/>
        </p:nvSpPr>
        <p:spPr>
          <a:xfrm>
            <a:off x="457200" y="220968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cal periods typically begin at the beginning of a month and lasts a specified amount of ti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a fiscal period for a business is one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al Information may be analyzed at any time during the year, however, it always is analyzed at the end of the fiscal peri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Box 3"/>
          <p:cNvSpPr/>
          <p:nvPr/>
        </p:nvSpPr>
        <p:spPr>
          <a:xfrm>
            <a:off x="3054240" y="5334120"/>
            <a:ext cx="324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24a82"/>
                </a:solidFill>
                <a:uFillTx/>
                <a:latin typeface="Times New Roman"/>
                <a:hlinkClick r:id="rId2"/>
              </a:rPr>
              <a:t>www.yahoo.com/fi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sto MT"/>
              </a:rPr>
              <a:t>Reasons a Worksheet is Used</a:t>
            </a:r>
            <a:endParaRPr b="0" lang="en-US" sz="43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4" name="TextBox 3"/>
          <p:cNvSpPr/>
          <p:nvPr/>
        </p:nvSpPr>
        <p:spPr>
          <a:xfrm>
            <a:off x="457200" y="187632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ummarize General Ledger account balances to prove that debits equal cred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lans needed changes to general ledger accounts to bring balances up to d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eparate General Ledger account balances according to financial statements to be prep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lance Sheet and Income Stat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To calculate the amount of net income or net loss for a fiscal peri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4920" y="244440"/>
            <a:ext cx="853416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04040"/>
                </a:solidFill>
                <a:latin typeface="Calisto MT"/>
              </a:rPr>
              <a:t>PREPARING THE HEADING OF A WORK SHEET</a:t>
            </a:r>
            <a:endParaRPr b="0" lang="en-US" sz="29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16" name="Picture 3" descr="D:\C21 PowerPoint\Multi_Journal\art for blue\Ch07\Ch07-01a.jpg"/>
          <p:cNvPicPr/>
          <p:nvPr/>
        </p:nvPicPr>
        <p:blipFill>
          <a:blip r:embed="rId2"/>
          <a:srcRect l="39340" t="0" r="0" b="87104"/>
          <a:stretch/>
        </p:blipFill>
        <p:spPr>
          <a:xfrm>
            <a:off x="422280" y="1981080"/>
            <a:ext cx="8229600" cy="2181240"/>
          </a:xfrm>
          <a:prstGeom prst="rect">
            <a:avLst/>
          </a:prstGeom>
          <a:ln w="0">
            <a:noFill/>
          </a:ln>
        </p:spPr>
      </p:pic>
      <p:sp>
        <p:nvSpPr>
          <p:cNvPr id="717" name="Oval 4"/>
          <p:cNvSpPr/>
          <p:nvPr/>
        </p:nvSpPr>
        <p:spPr>
          <a:xfrm>
            <a:off x="2784600" y="22860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5"/>
          <p:cNvSpPr/>
          <p:nvPr/>
        </p:nvSpPr>
        <p:spPr>
          <a:xfrm>
            <a:off x="1184400" y="33526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6"/>
          <p:cNvSpPr/>
          <p:nvPr/>
        </p:nvSpPr>
        <p:spPr>
          <a:xfrm>
            <a:off x="2971800" y="28954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7"/>
          <p:cNvSpPr/>
          <p:nvPr/>
        </p:nvSpPr>
        <p:spPr>
          <a:xfrm>
            <a:off x="457200" y="502920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 of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457200" y="42670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Name of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9"/>
          <p:cNvSpPr/>
          <p:nvPr/>
        </p:nvSpPr>
        <p:spPr>
          <a:xfrm>
            <a:off x="457200" y="4648320"/>
            <a:ext cx="39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 of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10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7-1, page 1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PREPARING A TRIAL BALANCE ON A WORK SHEET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25" name="Picture 3" descr="D:\C21 PowerPoint\Multi_Journal\art for blue\Ch07\Ch07-01b.jpg"/>
          <p:cNvPicPr/>
          <p:nvPr/>
        </p:nvPicPr>
        <p:blipFill>
          <a:blip r:embed="rId2"/>
          <a:srcRect l="11607" t="0" r="0" b="48035"/>
          <a:stretch/>
        </p:blipFill>
        <p:spPr>
          <a:xfrm>
            <a:off x="457200" y="914400"/>
            <a:ext cx="5246640" cy="5410080"/>
          </a:xfrm>
          <a:prstGeom prst="rect">
            <a:avLst/>
          </a:prstGeom>
          <a:ln w="0">
            <a:noFill/>
          </a:ln>
        </p:spPr>
      </p:pic>
      <p:sp>
        <p:nvSpPr>
          <p:cNvPr id="726" name="Oval 4"/>
          <p:cNvSpPr/>
          <p:nvPr/>
        </p:nvSpPr>
        <p:spPr>
          <a:xfrm>
            <a:off x="457200" y="16002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Oval 5"/>
          <p:cNvSpPr/>
          <p:nvPr/>
        </p:nvSpPr>
        <p:spPr>
          <a:xfrm>
            <a:off x="5486400" y="53341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Oval 7"/>
          <p:cNvSpPr/>
          <p:nvPr/>
        </p:nvSpPr>
        <p:spPr>
          <a:xfrm>
            <a:off x="4419720" y="121932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8"/>
          <p:cNvSpPr/>
          <p:nvPr/>
        </p:nvSpPr>
        <p:spPr>
          <a:xfrm>
            <a:off x="5867280" y="287172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5867280" y="2133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Account Ti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0"/>
          <p:cNvSpPr/>
          <p:nvPr/>
        </p:nvSpPr>
        <p:spPr>
          <a:xfrm>
            <a:off x="5867280" y="323532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To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1"/>
          <p:cNvSpPr/>
          <p:nvPr/>
        </p:nvSpPr>
        <p:spPr>
          <a:xfrm>
            <a:off x="5867280" y="2498760"/>
            <a:ext cx="28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Bal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12"/>
          <p:cNvSpPr/>
          <p:nvPr/>
        </p:nvSpPr>
        <p:spPr>
          <a:xfrm>
            <a:off x="2743200" y="5715000"/>
            <a:ext cx="106668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 &amp;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15"/>
          <p:cNvSpPr/>
          <p:nvPr/>
        </p:nvSpPr>
        <p:spPr>
          <a:xfrm>
            <a:off x="5486400" y="60199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17"/>
          <p:cNvSpPr/>
          <p:nvPr/>
        </p:nvSpPr>
        <p:spPr>
          <a:xfrm>
            <a:off x="5851440" y="35971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Write To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9"/>
          <p:cNvSpPr/>
          <p:nvPr/>
        </p:nvSpPr>
        <p:spPr>
          <a:xfrm>
            <a:off x="5851440" y="3962520"/>
            <a:ext cx="232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ble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20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7-1, page 1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3:17:25Z</dcterms:created>
  <dc:creator>Mary Colleen McLaughlin</dc:creator>
  <dc:description/>
  <dc:language>en-US</dc:language>
  <cp:lastModifiedBy>David Combs</cp:lastModifiedBy>
  <cp:lastPrinted>1999-03-30T19:15:04Z</cp:lastPrinted>
  <dcterms:modified xsi:type="dcterms:W3CDTF">2012-11-07T14:22:48Z</dcterms:modified>
  <cp:revision>26</cp:revision>
  <dc:subject/>
  <dc:title>THE ACCOUNTING EQUATION</dc:title>
</cp:coreProperties>
</file>